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56A-93B7-41A2-9883-49F77E57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F92-A9C0-4F59-83E8-6DCF44A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AA4-7131-495B-9994-50DE36E2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70F-E874-4A71-990B-5F1E9977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111-A493-4E0A-9857-3810979B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7766-9D84-4CA8-915C-8ADE7C9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3785-49E8-4BD8-A2E9-9B42DC3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51F0-F35A-4BFA-887E-0A83E022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675-A678-40B6-B8FC-9BC4611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C3D-E7DF-40F2-8832-5EB2885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6A12-4852-4513-92E5-45A3E49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61A-1CB0-4D45-BF9A-3F0B678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7C1-DAD2-4F75-A06C-8BF95C4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5E8-D6CB-45A0-84FE-1ADF8882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DD1A-E7F6-4F64-A24A-0487B8B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2B31-81D9-41E1-B966-B5B1A823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D56F-4E3C-4892-AE62-9CC1E229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E28-A9B2-452E-AC0E-71EC2D7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A17-68B9-48F0-A141-C7F2ED3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B1D-9465-4818-BBB5-D795AF7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C54-31F2-4EB4-9BBB-8D321FD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5C4-1B23-4670-B8F9-1D05D72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F8D-8428-4E8C-A9C4-9653A4D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786-6187-42BF-960B-B1287E6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0149-DFAC-49F2-9636-53E30B47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069F-C027-4788-931D-949C464F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ving Word 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for clu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 are some CLUE WORDS that will help you decide what to d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54016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ddi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trac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mo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are le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t’s look at the example aga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ny CLUE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,”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“in all” tell us that we should AD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at we UNDERSTAND the problem, and have a PLAN, we’re ready for the next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number sentence using the information in the problem, and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ork it ou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552840" cy="37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ive it a tr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number sentence and SOLV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wrote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4 + 12 = 26 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scare me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rcRect l="12073" t="25242" r="36218" b="5257"/>
          <a:stretch/>
        </p:blipFill>
        <p:spPr>
          <a:xfrm>
            <a:off x="5105520" y="17524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your answer fit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to find out how many birds Alex saw in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dded the number he saw yesterday and the number he saw to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answer was “Alex saw 26 birds in all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makes sense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did i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re Word Problem Whizze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0895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68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68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re are the steps once more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2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3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4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make me nervous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768760" cy="43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?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just skip them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9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Worry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just 4 easy steps, you can become…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ord Problem Whi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you trying to figure 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’s an exampl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roblem, what are you trying to figure 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birds did Alex see in all?”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ill you answer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uld you ADD or SUBTRAC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2:51:05Z</dcterms:created>
  <dc:creator>Donnell</dc:creator>
  <dc:description/>
  <dc:language>en-US</dc:language>
  <cp:lastModifiedBy>5853</cp:lastModifiedBy>
  <dcterms:modified xsi:type="dcterms:W3CDTF">2010-02-23T13:47:01Z</dcterms:modified>
  <cp:revision>15</cp:revision>
  <dc:subject/>
  <dc:title>Solving Word Problems</dc:title>
</cp:coreProperties>
</file>